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30D-C64A-4994-887B-C9F3278F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517-A80A-415D-AA0B-3DE623C4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F02-3A1E-4C56-842F-6AB3B067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F2A-45EE-4F46-95D0-EA5388EC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57A-B8C4-4A93-9D88-E5845C6D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A2B-86A5-4196-BE53-86EE9CB5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541-F36B-4808-805F-0AA45343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FB2-987A-421D-A28E-2E3D8D5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E92-D347-4800-AA73-78DCDD90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94A-3DF6-48D4-8601-527F83E6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760-66A7-43F3-8A91-742A20DF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28E-EC10-4D26-8289-E6482437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565E-71F1-4043-BC3D-B4CBC8956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838080"/>
            <a:ext cx="4800600" cy="441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3962520"/>
            <a:ext cx="198108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791320"/>
            <a:ext cx="19810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3870360"/>
            <a:ext cx="685440" cy="914040"/>
            <a:chOff x="914400" y="3870360"/>
            <a:chExt cx="685440" cy="914040"/>
          </a:xfrm>
        </p:grpSpPr>
        <p:sp>
          <p:nvSpPr>
            <p:cNvPr id="45" name=""/>
            <p:cNvSpPr/>
            <p:nvPr/>
          </p:nvSpPr>
          <p:spPr>
            <a:xfrm>
              <a:off x="914400" y="3870360"/>
              <a:ext cx="3427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7480" y="3870360"/>
              <a:ext cx="3423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791320" y="4648320"/>
            <a:ext cx="761760" cy="533160"/>
          </a:xfrm>
          <a:prstGeom prst="rect">
            <a:avLst/>
          </a:prstGeom>
          <a:solidFill>
            <a:srgbClr val="d3e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03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4360" y="27860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-mix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0520" y="27874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-mixer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360" y="5622840"/>
            <a:ext cx="215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    x cos(rotation) + y sin(rota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*    takes care of z 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90360"/>
            <a:ext cx="88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             for fast cantilever tracking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6560" y="9748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 &gt; di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1371600"/>
            <a:ext cx="914400" cy="609480"/>
          </a:xfrm>
          <a:prstGeom prst="rect">
            <a:avLst/>
          </a:prstGeom>
          <a:solidFill>
            <a:srgbClr val="eed0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676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520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960" y="4784760"/>
            <a:ext cx="134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1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tilever m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7800" y="478476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2 - drive signal + tri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2240" y="150804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cillo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60080" y="3962520"/>
            <a:ext cx="10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ak ou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74560" y="59277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30560" y="4632480"/>
            <a:ext cx="64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1219320"/>
            <a:ext cx="3885840" cy="1523880"/>
            <a:chOff x="914400" y="1219320"/>
            <a:chExt cx="3885840" cy="1523880"/>
          </a:xfrm>
        </p:grpSpPr>
        <p:grpSp>
          <p:nvGrpSpPr>
            <p:cNvPr id="65" name=""/>
            <p:cNvGrpSpPr/>
            <p:nvPr/>
          </p:nvGrpSpPr>
          <p:grpSpPr>
            <a:xfrm>
              <a:off x="914400" y="1219320"/>
              <a:ext cx="3885840" cy="1523880"/>
              <a:chOff x="914400" y="1219320"/>
              <a:chExt cx="3885840" cy="152388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914400" y="1219320"/>
                <a:ext cx="3885840" cy="1523520"/>
                <a:chOff x="914400" y="1219320"/>
                <a:chExt cx="3885840" cy="1523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91440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58976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104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3304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5532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3776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3962520" y="1219320"/>
                <a:ext cx="0" cy="152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066680" y="1371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17524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21337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717560" y="1371600"/>
              <a:ext cx="152640" cy="1295280"/>
              <a:chOff x="1717560" y="1371600"/>
              <a:chExt cx="152640" cy="1295280"/>
            </a:xfrm>
          </p:grpSpPr>
          <p:sp>
            <p:nvSpPr>
              <p:cNvPr id="79" name=""/>
              <p:cNvSpPr/>
              <p:nvPr/>
            </p:nvSpPr>
            <p:spPr>
              <a:xfrm>
                <a:off x="171756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1756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71756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1756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276720" y="1371600"/>
              <a:ext cx="152280" cy="1295280"/>
              <a:chOff x="3276720" y="1371600"/>
              <a:chExt cx="15228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327672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27672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7672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657600" y="1371600"/>
              <a:ext cx="152280" cy="1295280"/>
              <a:chOff x="3657600" y="1371600"/>
              <a:chExt cx="152280" cy="1295280"/>
            </a:xfrm>
          </p:grpSpPr>
          <p:sp>
            <p:nvSpPr>
              <p:cNvPr id="89" name=""/>
              <p:cNvSpPr/>
              <p:nvPr/>
            </p:nvSpPr>
            <p:spPr>
              <a:xfrm>
                <a:off x="36576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576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576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576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14800" y="1371600"/>
              <a:ext cx="152280" cy="1295280"/>
              <a:chOff x="4114800" y="1371600"/>
              <a:chExt cx="15228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41148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148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148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5680" y="1371600"/>
              <a:ext cx="152640" cy="1295280"/>
              <a:chOff x="4495680" y="1371600"/>
              <a:chExt cx="152640" cy="1295280"/>
            </a:xfrm>
          </p:grpSpPr>
          <p:sp>
            <p:nvSpPr>
              <p:cNvPr id="99" name=""/>
              <p:cNvSpPr/>
              <p:nvPr/>
            </p:nvSpPr>
            <p:spPr>
              <a:xfrm>
                <a:off x="449568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9568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9568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9072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6920" y="127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1720" y="166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6920" y="20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6920" y="242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33320" y="426708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 1 – driving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720" y="4724280"/>
            <a:ext cx="188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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cantilever movement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6019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96240" y="5943600"/>
            <a:ext cx="87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trigger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24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240" y="2422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7524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93560" y="5699160"/>
            <a:ext cx="16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1: X amplified &gt;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2: y amplified &gt; ~ 1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 amplifier: ~1/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94" idx="0"/>
            <a:endCxn id="110" idx="1"/>
          </p:cNvCxnSpPr>
          <p:nvPr/>
        </p:nvCxnSpPr>
        <p:spPr>
          <a:xfrm flipH="1" rot="16200000">
            <a:off x="4038840" y="1523880"/>
            <a:ext cx="2994480" cy="2689560"/>
          </a:xfrm>
          <a:prstGeom prst="bentConnector3">
            <a:avLst>
              <a:gd name="adj1" fmla="val -7743"/>
            </a:avLst>
          </a:prstGeom>
          <a:ln w="25560">
            <a:solidFill>
              <a:srgbClr val="33ccff"/>
            </a:solidFill>
            <a:miter/>
          </a:ln>
        </p:spPr>
      </p:cxnSp>
      <p:cxnSp>
        <p:nvCxnSpPr>
          <p:cNvPr id="122" name=""/>
          <p:cNvCxnSpPr>
            <a:stCxn id="97" idx="5"/>
            <a:endCxn id="118" idx="1"/>
          </p:cNvCxnSpPr>
          <p:nvPr/>
        </p:nvCxnSpPr>
        <p:spPr>
          <a:xfrm flipH="1" rot="16200000">
            <a:off x="3863880" y="3025440"/>
            <a:ext cx="2396160" cy="1634040"/>
          </a:xfrm>
          <a:prstGeom prst="bentConnector3">
            <a:avLst>
              <a:gd name="adj1" fmla="val 50232"/>
            </a:avLst>
          </a:prstGeom>
          <a:ln w="31680">
            <a:solidFill>
              <a:srgbClr val="f8ff6b"/>
            </a:solidFill>
            <a:miter/>
          </a:ln>
        </p:spPr>
      </p:cxnSp>
      <p:cxnSp>
        <p:nvCxnSpPr>
          <p:cNvPr id="123" name=""/>
          <p:cNvCxnSpPr>
            <a:stCxn id="111" idx="4"/>
            <a:endCxn id="119" idx="6"/>
          </p:cNvCxnSpPr>
          <p:nvPr/>
        </p:nvCxnSpPr>
        <p:spPr>
          <a:xfrm rot="5400000">
            <a:off x="6610320" y="4743360"/>
            <a:ext cx="114840" cy="5338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3" idx="1"/>
            <a:endCxn id="95" idx="2"/>
          </p:cNvCxnSpPr>
          <p:nvPr/>
        </p:nvCxnSpPr>
        <p:spPr>
          <a:xfrm rot="10800000">
            <a:off x="4114800" y="1828800"/>
            <a:ext cx="2765880" cy="4213800"/>
          </a:xfrm>
          <a:prstGeom prst="bentConnector3">
            <a:avLst>
              <a:gd name="adj1" fmla="val 108383"/>
            </a:avLst>
          </a:prstGeom>
          <a:ln w="22320">
            <a:solidFill>
              <a:srgbClr val="003366"/>
            </a:solidFill>
            <a:miter/>
          </a:ln>
        </p:spPr>
      </p:cxnSp>
      <p:cxnSp>
        <p:nvCxnSpPr>
          <p:cNvPr id="125" name=""/>
          <p:cNvCxnSpPr>
            <a:stCxn id="74" idx="0"/>
            <a:endCxn id="84" idx="0"/>
          </p:cNvCxnSpPr>
          <p:nvPr/>
        </p:nvCxnSpPr>
        <p:spPr>
          <a:xfrm rot="16200000">
            <a:off x="2247840" y="266400"/>
            <a:ext cx="360" cy="2210400"/>
          </a:xfrm>
          <a:prstGeom prst="bentConnector3">
            <a:avLst>
              <a:gd name="adj1" fmla="val -64400000"/>
            </a:avLst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26" name=""/>
          <p:cNvCxnSpPr>
            <a:stCxn id="75" idx="2"/>
            <a:endCxn id="104" idx="0"/>
          </p:cNvCxnSpPr>
          <p:nvPr/>
        </p:nvCxnSpPr>
        <p:spPr>
          <a:xfrm flipH="1" flipV="1" rot="10800000">
            <a:off x="1066320" y="1828800"/>
            <a:ext cx="381600" cy="2194200"/>
          </a:xfrm>
          <a:prstGeom prst="bentConnector4">
            <a:avLst>
              <a:gd name="adj1" fmla="val -60812"/>
              <a:gd name="adj2" fmla="val 51739"/>
            </a:avLst>
          </a:prstGeom>
          <a:ln w="28440">
            <a:solidFill>
              <a:srgbClr val="ff07be"/>
            </a:solidFill>
            <a:miter/>
          </a:ln>
        </p:spPr>
      </p:cxnSp>
      <p:cxnSp>
        <p:nvCxnSpPr>
          <p:cNvPr id="127" name=""/>
          <p:cNvCxnSpPr>
            <a:stCxn id="99" idx="2"/>
            <a:endCxn id="77" idx="3"/>
          </p:cNvCxnSpPr>
          <p:nvPr/>
        </p:nvCxnSpPr>
        <p:spPr>
          <a:xfrm flipV="1" rot="10800000">
            <a:off x="1088640" y="1447920"/>
            <a:ext cx="3407040" cy="1197000"/>
          </a:xfrm>
          <a:prstGeom prst="bentConnector3">
            <a:avLst>
              <a:gd name="adj1" fmla="val 107460"/>
            </a:avLst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00" idx="6"/>
            <a:endCxn id="76" idx="5"/>
          </p:cNvCxnSpPr>
          <p:nvPr/>
        </p:nvCxnSpPr>
        <p:spPr>
          <a:xfrm flipH="1">
            <a:off x="1197000" y="1828800"/>
            <a:ext cx="3451680" cy="435240"/>
          </a:xfrm>
          <a:prstGeom prst="bentConnector3">
            <a:avLst>
              <a:gd name="adj1" fmla="val -6717"/>
            </a:avLst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129" name=""/>
          <p:cNvCxnSpPr>
            <a:stCxn id="117" idx="2"/>
            <a:endCxn id="89" idx="7"/>
          </p:cNvCxnSpPr>
          <p:nvPr/>
        </p:nvCxnSpPr>
        <p:spPr>
          <a:xfrm rot="10800000">
            <a:off x="3787200" y="1393920"/>
            <a:ext cx="3908880" cy="435240"/>
          </a:xfrm>
          <a:prstGeom prst="bentConnector3">
            <a:avLst>
              <a:gd name="adj1" fmla="val 497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82" idx="4"/>
            <a:endCxn id="102" idx="6"/>
          </p:cNvCxnSpPr>
          <p:nvPr/>
        </p:nvCxnSpPr>
        <p:spPr>
          <a:xfrm flipH="1" flipV="1" rot="5400000">
            <a:off x="3182760" y="1201680"/>
            <a:ext cx="76320" cy="2854800"/>
          </a:xfrm>
          <a:prstGeom prst="bentConnector4">
            <a:avLst>
              <a:gd name="adj1" fmla="val -304739"/>
              <a:gd name="adj2" fmla="val 1081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79" idx="6"/>
            <a:endCxn id="103" idx="3"/>
          </p:cNvCxnSpPr>
          <p:nvPr/>
        </p:nvCxnSpPr>
        <p:spPr>
          <a:xfrm flipH="1">
            <a:off x="1013040" y="1447920"/>
            <a:ext cx="857520" cy="2705400"/>
          </a:xfrm>
          <a:prstGeom prst="bentConnector4">
            <a:avLst>
              <a:gd name="adj1" fmla="val -27047"/>
              <a:gd name="adj2" fmla="val 109395"/>
            </a:avLst>
          </a:prstGeom>
          <a:ln w="25560">
            <a:solidFill>
              <a:srgbClr val="29ff2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3126240" y="28036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35160" y="9730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 &gt; 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55:21Z</dcterms:created>
  <dc:creator>Jensenius</dc:creator>
  <dc:description/>
  <dc:language>en-US</dc:language>
  <cp:lastModifiedBy>Jensenius</cp:lastModifiedBy>
  <dcterms:modified xsi:type="dcterms:W3CDTF">2005-02-16T10:26:27Z</dcterms:modified>
  <cp:revision>6</cp:revision>
  <dc:subject/>
  <dc:title>Slide 1</dc:title>
</cp:coreProperties>
</file>